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00D2-D856-4EB0-B8AE-4BDC24386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D24AD-46F8-43C0-87B6-72F5D94532A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BAFAA-B26B-4ABF-8D49-EF42F09347C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331B-B002-49CA-BA85-FA94BEED54E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25C8-70D1-4674-9C5D-04ED9C6782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0972-EFAD-4161-8C84-1088F6A966A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0BBA-F27D-4DDC-A9C7-0FCBDBC9EE5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8095-286E-439F-AF1B-F2B63A92ADD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68B2F-3223-4EA3-A623-29280C648D7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2A0C-D121-4198-A30F-47AEC3A1022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93FD-F5A0-4AB5-818C-05697037C92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90FE6-E0F7-4CA2-BDB1-C9587FD5A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7B611-8407-44C8-87B3-C374CBC8F87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2C967F-A60D-4288-B6DB-519DA180259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0A446-F3A4-4B28-BF73-EA0ABB31382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2DE6FB-D221-4F90-BF36-A35F385BE6E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04A002-B620-4462-9F5A-25C98E13678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00A07-AE91-49D1-971C-D0924B3C82D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0FD8E1-D16D-4BA5-9CC0-0C250F4F366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687AA-374C-4547-A949-91B737AA4F8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D031E3-EC58-4FDE-91C0-57BD3077514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4353B-FB20-4A3E-966D-9721B16B9C1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C47223-80A1-4A31-BDBF-F7AD4FC61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54C0A-B62C-4AD8-AFC9-666368F3926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ED91F-8B58-406D-B62E-89DF1D9781A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36AB1-F196-405F-B7DF-AD1582D883A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ABA80C-04B2-4DE9-8E2F-F866E5E11CF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6D0E80-6281-4329-91E6-9E5EB7FAEC9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C313E7-FE5B-4A87-88D5-8085075B678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8585F-5864-47EA-B243-F755BA7FF31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588FD4-304E-4AE0-B012-0A9D85DA31C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7434D5-682E-4091-A00B-B3E91247515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E92FE-D25D-44DD-BBAF-9C4DE1F404B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E9DFA-A0D3-4177-B686-5A018191F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F6AE-A1FA-48F4-AD3C-F4720D46AD6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12AAE-30C0-4BB4-A1EA-F17E66F751B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9F262-EB95-4980-B7C5-1395CB6CE9E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144130-0881-48AD-A669-DB6ECD08EB3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A51E1-0FCB-427E-9A3B-30BCBEF1574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73387-B440-46C5-AA27-760F85F166A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ECD98-7F3F-4030-8026-4DEDEF23FE6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3F3AC-9491-40C0-99D3-DEC3E22517E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A63A-A800-409E-BB9E-89BE9696FC6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DB250-6BF7-4880-8208-4272B190612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3C78-6182-40E1-9D80-ABE40AB1F2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B3F3-BC35-4CD8-925B-183C42091A4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F0DBB-40F3-4E10-AE07-262CF71B63C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DABE8-5268-4EA9-A360-99B803CB59F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775C-34EC-46DF-BD57-5249DFFC42C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80C2C-5425-44AE-BEAD-13A87CE5B63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5E0C-53FC-4615-8A2A-5FD578F501D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186E2F-819A-4301-BD4D-3081FA180F4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888FA8-C0F5-4DC8-AD6C-0B23289C46A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688F79-D3BA-4B9B-9A3C-62AE9AAB274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D5AFF5-B46F-4977-AF02-733F0CCE5BE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BDB469-C550-4E7F-95B2-7FF8018935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8CFF0-0ECE-4D2A-965C-86C425D9E1A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E712C8-250D-4255-9B84-9CB04A42983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D271B3-FF7E-4660-9122-FD79E3A831C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B7206B-8210-4A6D-9B2D-95D5D5A0D1C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DFE7C4-E11C-44B1-A5DF-A3D2AD3F120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477CCB-DDAF-4EDB-8393-75785E33BE8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709899-8001-4400-89DF-9FCFAEA3A37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8D94B2-0EDA-49B7-91C0-EFE566236B0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051D5-1FE4-4EBB-8A4F-7E856627367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E42AF-50F5-4E6C-857A-7D7259D3F00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17FE6-3AA6-4B84-A88C-EB8E595E5D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A553E-3917-4A62-A9B9-500EC364168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D3278-F4A3-4B2E-818D-52469808828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31708-3482-4DCA-81F9-2DCB5DC55F7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0D81B7-BC52-49FB-9968-E1DAF427759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BC7AF2-C854-43A6-9109-138611E6885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65DDF7-6D73-4E4C-A1E8-F680B81146A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26125B-E09A-4764-8B77-A1B551F169D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D0DDA-7A80-4DA9-8ED7-9CC6C857AF7C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D14765-146F-4BE8-A995-BE567EC1853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65BC4-02FB-4AAA-B445-E13099A1174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E259B-C8B5-44EC-A602-DFDD3791D8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8DB2-99D9-47E4-8D64-C9E8F6AED87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8C94D-04A1-44D9-8F09-8559E92557F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CCE51-1219-40B5-AA18-0C714F6501B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0DF21-8D61-48E8-8C98-9E8EB5540CA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7DCA3-232A-419A-BA09-83B3672AC2F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8180A-2CAA-4FCB-8293-B0A6907B05D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D2DF-176A-4286-BDC3-303F891F5E1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CB994-4134-474A-8F7F-41E83540B72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02FC1-CA88-4A55-A0D6-30728F37528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2BEFF-7F33-4D59-8F5D-76A5A760EF3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EAF38-EAEE-4169-BC02-48D4620E30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F5B8-6E7D-4226-9A5D-73AA3B3C51C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CBC14-E5B6-4C75-B8D2-72B23C6CE86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50789-AA1D-48E0-8A3A-318814D8DA5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D75834-19FC-4A83-9375-A7AA8DE3CAB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E02E9C-2A3C-45D3-A54E-D7BE113DFFB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696803-71AA-48B0-A4A4-43D05F8B4A2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EF9DD8-6E88-4A1A-AD93-DFE6A1E6AC7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556DED-95AF-4A2C-8DB5-205898DA5C3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F236F4-38DB-4C01-ABA5-1DE492A5B1A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5C9FAD-3A5C-4548-9E16-2415E7D251A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26D02-20DF-4D07-B256-921AFB422B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8F66-C9C7-4A52-A20B-F200F0D69BC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F3C89F-3DB5-4FD4-BA03-EA1A0043FC5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E6BB49-46F9-4C18-BA78-0EA3C988926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D7221C-A6CE-4D17-8DA5-2D330450DE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C89A-D257-4039-8283-263503F88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502E-9AC8-4A21-B635-810BDDAFF6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6EFC-1E71-483E-964F-CA2CCA86BA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4197-E031-4FCD-A493-AC85CF03EF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F5E1-34EB-4D51-8C1D-E7202C52A3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2821-B216-4978-8680-B9CA2A9A4A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5A3-038E-4A1C-8484-88FBE50D9A8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2A3-268A-43EF-84EB-147D3F7A0B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F8A-1A90-4E49-83E9-B41E1D2D7D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0F3-2A63-42F2-BDDA-EE5C5887E4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3BE4-8373-4073-8964-4416C4372F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F283-3E49-4226-9015-DE6D5F83D1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607-61A9-434B-B150-2CE8B14728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A83-1243-4351-AFF8-40782DC469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57B-2A6C-412A-9688-912E7354C7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C40-8F4E-4D3C-B962-F4244C350D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878-70D1-421F-B5C3-8619BDA294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B4C-163C-4513-BD42-CB2D995B56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760-0C3E-49AE-88DB-E81406B508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2A98A-F8F1-42CE-8911-0E273F3B57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73652-8802-4614-B197-1392345FBC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1B450-B7D5-46D2-9D53-671FE5F18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0309-9CF5-4211-A4C4-7294FED871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3572A-1D7F-4118-AB06-BA0D9695BAE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9F79C-30E1-4E44-A1C3-E14014DA16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1FD65-A14B-4C27-B5DD-BCB55FFD61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4A5A9-A404-4D0F-AC52-32229036DB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F4368-44CC-4D29-B413-12BA62233F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0C612-E019-4326-8E90-999D7EB70A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5D7D7-744E-43CE-9653-A6D40496EE8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2D71B-949A-4F92-8E99-0D22EA9D4F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10BF2-35CD-48E6-A2DC-712FE273BAC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2E639-5B63-4D59-B097-04945153A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EB85-92F5-4E6B-A8FA-7208B1ACB85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CED4F-FFD5-4B09-BB41-F4F17757D93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78CBC-7D36-4CEB-9059-17987C1B40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3FDA4-21CB-47AE-BAFC-182365C8224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E4A00-F91B-49AC-9636-E171F97C85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9F8BA-9DDE-485D-919D-41AEA287CC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A0CAA-6F81-4569-9237-EF29E48FCE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2891B-1B6C-4A62-B594-03FB8DAD7DB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D1504-475F-453B-91CD-226A9B5241C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F372F-585C-4B04-8D51-C05663A02CF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5E42B-5A3E-4EF9-8D9C-F5EEA0F98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D2DF9-46D1-4A55-B650-5A7C82890A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267E9-BB78-4CC7-ACEC-FA2A617A7BF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8BB2-E5EF-478D-9D6F-5130FAD1DB7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6A84-8256-4C38-8EA3-A07AAC3532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2E80-06DD-4821-AC23-CA1335137A3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A9E2-774B-494E-86A6-1211A827D9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3959-B647-4A68-BCFC-DA84C46D9A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08F0-CC36-4643-BC7A-2BC54E48269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0FB6-F504-42EE-AA84-A89AD382688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3C5A-8829-4401-AB08-4326B2519FF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963C-988D-4A2A-960F-C0D9AD290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5F97-8788-4989-98D8-304AE219BFF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DECC-8A3E-458F-8552-2DB4110475F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6C16-7128-4AC8-B288-76626111720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9685-DC68-4A07-8703-896830C6BE6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5C469-D034-4D3F-8B4E-B99E6DCBB5E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6D7241-F7E1-4D8E-873A-4B609535170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FD84A-ED71-4819-9D1A-9AF3CBC2DA1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AE9F2-0C2D-4210-99FF-8AA7FB637A3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C0A33-FFA0-4CC5-84ED-A6A96DF5307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E7DE2D-443D-48B7-A3D4-E01CCD2AE73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457D18-247E-471A-ADAC-1354751E2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0CE3-3D24-49A3-9A67-B17E0B8E7A1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BABF1-9790-45F1-BBEC-A962F58B356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D35FF9-C926-4689-BBDB-17ECE197097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C97AB-158D-4667-AE22-D839463064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DA4DC-A023-41BB-B86F-5ACC6216811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D13CAF-0F2A-4114-8E40-976415D6406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0C1A7-73A9-4B60-BBC4-D49FCF87109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69D2E-C490-4210-BC31-E54CBBC7A01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119BA-9401-4899-B984-FA7076BCABD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623EC-D01F-4BD1-A79E-758D61DEBE1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4F7C5-87EE-4246-AAA6-DE97E5DCF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C334-9D5E-472D-8D99-3FC4290FD0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819160" y="380520"/>
            <a:ext cx="60958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F07D0-22B7-485C-8808-266413B2551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9F379-B146-4879-8FE5-A8DE5280100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414BF-1FBA-48F4-B8B4-7578FFE3186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57E00-91AF-4DA9-896A-F8A31FD3D79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819160" y="4528080"/>
            <a:ext cx="60958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F69EC-FEE7-455F-ABD9-40205D28020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942880" y="198072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81916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942880" y="4528080"/>
            <a:ext cx="2974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8FF13-ED7E-46C5-BB76-3D69B7F269D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80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941520" y="198072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281916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4880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941520" y="4528080"/>
            <a:ext cx="1962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5DB3A-AC5F-4802-A345-F9A08F2AFC9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0560-069F-4E96-AF40-C9C50CB0965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1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F050-E044-471F-B3FF-F7ACF1DFC60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D2702-626B-4385-BBA8-C84DBCAA6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4784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890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2880" indent="-2458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8200" indent="-2192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65240" indent="-2016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4760" indent="-18252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4760" indent="-1825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4760" indent="-18252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4280" y="-1800"/>
            <a:ext cx="3524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6E2E-D4AA-4894-955A-6C74ACE91590}" type="slidenum"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10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B64B-B979-4AF8-95B8-63274A281463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Num" idx="11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4196-1119-451C-9EE7-5E9FBAE8A79F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12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6639-DE28-4CB0-AAC1-34BA1B52EC0D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13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7AC8-694E-42D8-BFFE-A1EE625AEAB2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sldNum" idx="14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404D-1D7A-4610-AB7F-78263A2C9969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5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11E3-00C2-48DC-A936-B0D94C3A2FA1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6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94A2-E69B-4C2A-8581-340260B94C4E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46520" y="6248520"/>
            <a:ext cx="312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2B02-8689-46B9-B846-88DD4FBE7A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 rot="10800000">
            <a:off x="5408280" y="3809880"/>
            <a:ext cx="374796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2"/>
          <p:cNvSpPr/>
          <p:nvPr/>
        </p:nvSpPr>
        <p:spPr>
          <a:xfrm rot="10800000">
            <a:off x="5409720" y="3895560"/>
            <a:ext cx="3746520" cy="1922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3"/>
          <p:cNvSpPr/>
          <p:nvPr/>
        </p:nvSpPr>
        <p:spPr>
          <a:xfrm rot="10800000">
            <a:off x="5409720" y="4164120"/>
            <a:ext cx="1978200" cy="17280"/>
          </a:xfrm>
          <a:prstGeom prst="rect">
            <a:avLst/>
          </a:prstGeom>
          <a:solidFill>
            <a:srgbClr val="43808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5408640" y="3962520"/>
            <a:ext cx="3063960" cy="27000"/>
          </a:xfrm>
          <a:prstGeom prst="roundRect">
            <a:avLst>
              <a:gd name="adj" fmla="val 1665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7375680" y="4060800"/>
            <a:ext cx="1600200" cy="36360"/>
          </a:xfrm>
          <a:prstGeom prst="roundRect">
            <a:avLst>
              <a:gd name="adj" fmla="val 16662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3648240"/>
            <a:ext cx="9156600" cy="2444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3675240"/>
            <a:ext cx="9156600" cy="139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8"/>
          <p:cNvSpPr/>
          <p:nvPr/>
        </p:nvSpPr>
        <p:spPr>
          <a:xfrm rot="10800000">
            <a:off x="6413400" y="3641760"/>
            <a:ext cx="2743200" cy="249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0" y="0"/>
            <a:ext cx="9156600" cy="37004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3870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3898800"/>
            <a:ext cx="4952880" cy="295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marL="23760"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1" marL="23760" indent="-23760">
              <a:spcBef>
                <a:spcPts val="300"/>
              </a:spcBef>
              <a:buClr>
                <a:srgbClr val="438086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2" marL="23760" indent="-23760">
              <a:spcBef>
                <a:spcPts val="300"/>
              </a:spcBef>
              <a:buClr>
                <a:srgbClr val="53548a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3" marL="23760" indent="-23760">
              <a:spcBef>
                <a:spcPts val="300"/>
              </a:spcBef>
              <a:buClr>
                <a:srgbClr val="53548a"/>
              </a:buClr>
              <a:buFont typeface="Georg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4" marL="23760" indent="-23760">
              <a:spcBef>
                <a:spcPts val="300"/>
              </a:spcBef>
              <a:buClr>
                <a:srgbClr val="a04da3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5" marL="23760" indent="-23760">
              <a:spcBef>
                <a:spcPts val="300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  <a:p>
            <a:pPr lvl="6" marL="23760" indent="-23760">
              <a:spcBef>
                <a:spcPts val="300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424456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8724600" y="-1800"/>
            <a:ext cx="3538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F196-B201-40CA-8052-D057F5EA20F1}" type="slidenum"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99"/>
            </a:gs>
            <a:gs pos="100000">
              <a:srgbClr val="cc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4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EE1C-A458-468A-A719-C6D565028E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A69C-FC74-4066-8835-DEB8C75656AB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6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B0A2-2805-405C-AE6E-38D1AD4ECC55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7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EACC-D92E-4C0B-9656-0ECA0C0D4CB3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8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5182-1BC9-4554-8EEC-C762F4DF3C18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682560" indent="-285840">
              <a:spcBef>
                <a:spcPts val="601"/>
              </a:spcBef>
              <a:buClr>
                <a:srgbClr val="0033cc"/>
              </a:buClr>
              <a:buSzPct val="63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1082520" indent="-228600">
              <a:spcBef>
                <a:spcPts val="601"/>
              </a:spcBef>
              <a:buClr>
                <a:srgbClr val="cc9900"/>
              </a:buClr>
              <a:buSzPct val="63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53972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99692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99692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7805880" y="63241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E688-408B-4661-9F44-080288255E06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1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ell Ringer: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224784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890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How do you believe Ancient Egyptians were able to meet the Ancient Indian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8594640" y="-14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936F-88F9-452C-B02E-35BCC06E0B40}" type="slidenum"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Reincar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The rebirth of the soul in the body of another living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2440" tIns="50760" bIns="50760" anchor="ctr">
            <a:noAutofit/>
          </a:bodyPr>
          <a:p>
            <a:pPr marL="414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old"/>
              </a:rPr>
              <a:t>Word Splash…create on left side of Interactive Notebook.</a:t>
            </a:r>
            <a:endParaRPr b="0" lang="en-US" sz="4000" spc="-1" strike="noStrike">
              <a:solidFill>
                <a:srgbClr val="0033cc"/>
              </a:solidFill>
              <a:latin typeface="Arial Bold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666880"/>
                <a:gridCol w="2819520"/>
              </a:tblGrid>
              <a:tr h="2265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Write the word you are def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efine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651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Write a sentence using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Draw a picture to help you remember the wor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10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OC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2247840"/>
            <a:ext cx="8229600" cy="4610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890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G 5: Word Splas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890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g 6: Vocab c-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8594640" y="-1440"/>
            <a:ext cx="3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B68E-A5EA-492B-B338-A4919202E39D}" type="slidenum">
              <a:rPr b="0" lang="en-US" sz="1800" spc="-1" strike="noStrike">
                <a:solidFill>
                  <a:srgbClr val="ffffff"/>
                </a:solidFill>
                <a:latin typeface="Georgia"/>
                <a:ea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1"/>
          <p:cNvSpPr/>
          <p:nvPr/>
        </p:nvSpPr>
        <p:spPr>
          <a:xfrm>
            <a:off x="0" y="366840"/>
            <a:ext cx="9156600" cy="8388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Rectangle 2"/>
          <p:cNvSpPr/>
          <p:nvPr/>
        </p:nvSpPr>
        <p:spPr>
          <a:xfrm>
            <a:off x="0" y="0"/>
            <a:ext cx="91566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0" y="307800"/>
            <a:ext cx="91566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Rectangle 4"/>
          <p:cNvSpPr/>
          <p:nvPr/>
        </p:nvSpPr>
        <p:spPr>
          <a:xfrm rot="10800000">
            <a:off x="5408280" y="356760"/>
            <a:ext cx="3747960" cy="93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Rectangle 5"/>
          <p:cNvSpPr/>
          <p:nvPr/>
        </p:nvSpPr>
        <p:spPr>
          <a:xfrm rot="10800000">
            <a:off x="5409720" y="438840"/>
            <a:ext cx="3746520" cy="1796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5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5" name="AutoShape 7"/>
          <p:cNvSpPr/>
          <p:nvPr/>
        </p:nvSpPr>
        <p:spPr>
          <a:xfrm>
            <a:off x="7372440" y="587520"/>
            <a:ext cx="1600200" cy="378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9083520" y="-1440"/>
            <a:ext cx="7164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9043920" y="-1440"/>
            <a:ext cx="3960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Rectangle 10"/>
          <p:cNvSpPr/>
          <p:nvPr/>
        </p:nvSpPr>
        <p:spPr>
          <a:xfrm>
            <a:off x="8974080" y="-1440"/>
            <a:ext cx="41400" cy="6206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9" name="Rectangle 11"/>
          <p:cNvSpPr/>
          <p:nvPr/>
        </p:nvSpPr>
        <p:spPr>
          <a:xfrm>
            <a:off x="8915400" y="0"/>
            <a:ext cx="66600" cy="58428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Trebuchet MS"/>
              </a:rPr>
              <a:t>Subcontine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268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40800"/>
                </a:solidFill>
                <a:latin typeface="Georgia"/>
              </a:rPr>
              <a:t>A large landmass that is smaller than a contin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2" name="Picture 1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813120" cy="43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"/>
          <p:cNvSpPr/>
          <p:nvPr/>
        </p:nvSpPr>
        <p:spPr>
          <a:xfrm>
            <a:off x="0" y="366840"/>
            <a:ext cx="9156600" cy="8388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0" y="0"/>
            <a:ext cx="91566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0" y="307800"/>
            <a:ext cx="91566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Rectangle 4"/>
          <p:cNvSpPr/>
          <p:nvPr/>
        </p:nvSpPr>
        <p:spPr>
          <a:xfrm rot="10800000">
            <a:off x="5408280" y="356760"/>
            <a:ext cx="3747960" cy="93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5"/>
          <p:cNvSpPr/>
          <p:nvPr/>
        </p:nvSpPr>
        <p:spPr>
          <a:xfrm rot="10800000">
            <a:off x="5409720" y="438840"/>
            <a:ext cx="3746520" cy="1796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8" name="AutoShape 6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5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AutoShape 7"/>
          <p:cNvSpPr/>
          <p:nvPr/>
        </p:nvSpPr>
        <p:spPr>
          <a:xfrm>
            <a:off x="7372440" y="587520"/>
            <a:ext cx="1600200" cy="378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9083520" y="-1440"/>
            <a:ext cx="7164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9043920" y="-1440"/>
            <a:ext cx="3960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8974080" y="-1440"/>
            <a:ext cx="41400" cy="6206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11"/>
          <p:cNvSpPr/>
          <p:nvPr/>
        </p:nvSpPr>
        <p:spPr>
          <a:xfrm>
            <a:off x="8915400" y="0"/>
            <a:ext cx="66600" cy="58428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d99"/>
                </a:solidFill>
                <a:latin typeface="Trebuchet MS"/>
              </a:rPr>
              <a:t>Monso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268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Georgia"/>
              </a:rPr>
              <a:t>Seasonal wind patterns that cause wet and dry seasons (combination of drought-flood-hurrican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6" name="Picture 14" descr=""/>
          <p:cNvPicPr/>
          <p:nvPr/>
        </p:nvPicPr>
        <p:blipFill>
          <a:blip r:embed="rId1"/>
          <a:stretch/>
        </p:blipFill>
        <p:spPr>
          <a:xfrm>
            <a:off x="4952880" y="1990800"/>
            <a:ext cx="3657600" cy="45687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5" descr=""/>
          <p:cNvPicPr/>
          <p:nvPr/>
        </p:nvPicPr>
        <p:blipFill>
          <a:blip r:embed="rId2"/>
          <a:stretch/>
        </p:blipFill>
        <p:spPr>
          <a:xfrm>
            <a:off x="495360" y="2286000"/>
            <a:ext cx="3962520" cy="22860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6" descr=""/>
          <p:cNvPicPr/>
          <p:nvPr/>
        </p:nvPicPr>
        <p:blipFill>
          <a:blip r:embed="rId3"/>
          <a:stretch/>
        </p:blipFill>
        <p:spPr>
          <a:xfrm>
            <a:off x="457200" y="4191120"/>
            <a:ext cx="4038480" cy="25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1" descr=""/>
          <p:cNvPicPr/>
          <p:nvPr/>
        </p:nvPicPr>
        <p:blipFill>
          <a:blip r:embed="rId1"/>
          <a:stretch/>
        </p:blipFill>
        <p:spPr>
          <a:xfrm>
            <a:off x="1714680" y="254016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1592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Himalayas</a:t>
            </a:r>
            <a:br>
              <a:rPr sz="4400"/>
            </a:b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he world’s highest mountain range, forming the northern border of the Indian subcont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1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562360" cy="417204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Migrate</a:t>
            </a:r>
            <a:br>
              <a:rPr sz="4400"/>
            </a:b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o move from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"/>
          <p:cNvSpPr/>
          <p:nvPr/>
        </p:nvSpPr>
        <p:spPr>
          <a:xfrm>
            <a:off x="0" y="366840"/>
            <a:ext cx="9156600" cy="8388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0" y="0"/>
            <a:ext cx="91566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0" y="307800"/>
            <a:ext cx="91566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4"/>
          <p:cNvSpPr/>
          <p:nvPr/>
        </p:nvSpPr>
        <p:spPr>
          <a:xfrm rot="10800000">
            <a:off x="5408280" y="356760"/>
            <a:ext cx="3747960" cy="93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5"/>
          <p:cNvSpPr/>
          <p:nvPr/>
        </p:nvSpPr>
        <p:spPr>
          <a:xfrm rot="10800000">
            <a:off x="5409720" y="438840"/>
            <a:ext cx="3746520" cy="1796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AutoShape 6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5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7372440" y="587520"/>
            <a:ext cx="1600200" cy="378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9083520" y="-1440"/>
            <a:ext cx="7164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9043920" y="-1440"/>
            <a:ext cx="3960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0"/>
          <p:cNvSpPr/>
          <p:nvPr/>
        </p:nvSpPr>
        <p:spPr>
          <a:xfrm>
            <a:off x="8974080" y="-1440"/>
            <a:ext cx="41400" cy="6206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8915400" y="0"/>
            <a:ext cx="66600" cy="58428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cc"/>
                </a:solidFill>
                <a:latin typeface="Trebuchet MS"/>
              </a:rPr>
              <a:t>Caste System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3581280" cy="579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268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Georgia"/>
              </a:rPr>
              <a:t>Divided Indian society into groups based on a person’s birth, wealth, or occup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6" name="Picture 14" descr=""/>
          <p:cNvPicPr/>
          <p:nvPr/>
        </p:nvPicPr>
        <p:blipFill>
          <a:blip r:embed="rId1"/>
          <a:stretch/>
        </p:blipFill>
        <p:spPr>
          <a:xfrm>
            <a:off x="3276720" y="684360"/>
            <a:ext cx="5657760" cy="58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1"/>
          <p:cNvSpPr/>
          <p:nvPr/>
        </p:nvSpPr>
        <p:spPr>
          <a:xfrm>
            <a:off x="0" y="366840"/>
            <a:ext cx="9156600" cy="8388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0"/>
            <a:ext cx="9156600" cy="30960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0" y="307800"/>
            <a:ext cx="915660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0" name="Rectangle 4"/>
          <p:cNvSpPr/>
          <p:nvPr/>
        </p:nvSpPr>
        <p:spPr>
          <a:xfrm rot="10800000">
            <a:off x="5408280" y="356760"/>
            <a:ext cx="3747960" cy="9360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1" name="Rectangle 5"/>
          <p:cNvSpPr/>
          <p:nvPr/>
        </p:nvSpPr>
        <p:spPr>
          <a:xfrm rot="10800000">
            <a:off x="5409720" y="438840"/>
            <a:ext cx="3746520" cy="179640"/>
          </a:xfrm>
          <a:prstGeom prst="rect">
            <a:avLst/>
          </a:prstGeom>
          <a:solidFill>
            <a:srgbClr val="438086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AutoShape 6"/>
          <p:cNvSpPr/>
          <p:nvPr/>
        </p:nvSpPr>
        <p:spPr>
          <a:xfrm>
            <a:off x="5407200" y="496800"/>
            <a:ext cx="3062160" cy="27000"/>
          </a:xfrm>
          <a:prstGeom prst="roundRect">
            <a:avLst>
              <a:gd name="adj" fmla="val 1665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AutoShape 7"/>
          <p:cNvSpPr/>
          <p:nvPr/>
        </p:nvSpPr>
        <p:spPr>
          <a:xfrm>
            <a:off x="7372440" y="587520"/>
            <a:ext cx="1600200" cy="37800"/>
          </a:xfrm>
          <a:prstGeom prst="roundRect">
            <a:avLst>
              <a:gd name="adj" fmla="val 16667"/>
            </a:avLst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9083520" y="-1440"/>
            <a:ext cx="7164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9043920" y="-1440"/>
            <a:ext cx="39600" cy="620640"/>
          </a:xfrm>
          <a:prstGeom prst="rect">
            <a:avLst/>
          </a:pr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Rectangle 10"/>
          <p:cNvSpPr/>
          <p:nvPr/>
        </p:nvSpPr>
        <p:spPr>
          <a:xfrm>
            <a:off x="8974080" y="-1440"/>
            <a:ext cx="41400" cy="6206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Rectangle 11"/>
          <p:cNvSpPr/>
          <p:nvPr/>
        </p:nvSpPr>
        <p:spPr>
          <a:xfrm>
            <a:off x="8915400" y="0"/>
            <a:ext cx="66600" cy="584280"/>
          </a:xfrm>
          <a:prstGeom prst="rect">
            <a:avLst/>
          </a:pr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cc"/>
                </a:solidFill>
                <a:latin typeface="Trebuchet MS"/>
              </a:rPr>
              <a:t>Hinduism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2688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Georgia"/>
              </a:rPr>
              <a:t>The largest religion in India today. 1</a:t>
            </a:r>
            <a:r>
              <a:rPr b="0" lang="en-US" sz="2800" spc="-1" strike="noStrike" baseline="30000">
                <a:solidFill>
                  <a:srgbClr val="ff2712"/>
                </a:solidFill>
                <a:latin typeface="Georgia"/>
              </a:rPr>
              <a:t>st</a:t>
            </a:r>
            <a:r>
              <a:rPr b="0" lang="en-US" sz="2800" spc="-1" strike="noStrike">
                <a:solidFill>
                  <a:srgbClr val="ff2712"/>
                </a:solidFill>
                <a:latin typeface="Georgia"/>
              </a:rPr>
              <a:t> religion in India. Focus on 4 Noble Truths, Karma, and Reincarn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0" name="Picture 14" descr=""/>
          <p:cNvPicPr/>
          <p:nvPr/>
        </p:nvPicPr>
        <p:blipFill>
          <a:blip r:embed="rId1"/>
          <a:stretch/>
        </p:blipFill>
        <p:spPr>
          <a:xfrm>
            <a:off x="4038480" y="2133720"/>
            <a:ext cx="4705560" cy="34480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5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Ava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A representation of a Hindu god or goddess in human or anim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n</dc:creator>
  <dc:description/>
  <cp:keywords/>
  <dc:language>en-US</dc:language>
  <cp:lastModifiedBy>Tyler Daughtry</cp:lastModifiedBy>
  <dcterms:modified xsi:type="dcterms:W3CDTF">2013-10-28T15:08:40Z</dcterms:modified>
  <cp:revision>4</cp:revision>
  <dc:subject/>
  <dc:title>Unit 10 India Visual Vocabulary</dc:title>
</cp:coreProperties>
</file>